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90F9-A74D-484E-994F-6A2135EA4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1157-1789-44D2-AB1A-652C1C4D3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576E-8A05-40E6-AEBB-D69477342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1F2D-E252-4749-BC05-3577CEE58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0095E-A0F2-44D6-B6C5-B5BD49360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A1F42-23B9-47F5-B83B-27B79B97E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86C9F-A806-4C3E-89E5-011EEC56E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C61FD-0CD1-4028-8AED-D3332206F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65058-B968-4865-9F72-7A295AFDB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BC025-B2BB-4983-BD12-742F13378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84B68-66C5-45E9-A580-FD34C0F17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6A74-9FA2-4F42-8AD7-DA2884C60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DDA1D-FC6C-4BD1-83B9-26FDCCA54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A1726-C76F-4934-B663-0D770F290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367E4-7A99-4E88-B78D-61382C113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ECAB1-374C-4DFF-85BD-B9C19DEB6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BE440-DD4C-4D20-9C1F-07EEB4F47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2811-9046-4563-A026-7F784FC9D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F79D-645C-4827-89DF-C0B7B8ABD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F7B4-CA13-410A-8550-30CFD73AE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2AA3-0431-4562-8095-C55E6510B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2012-10E8-44FF-81F8-F055FBF5F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434B-FFE6-46D3-AF0E-CC646354D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8DBE-161B-4FFE-A92D-A31DA10CC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D7FB7-8388-4A01-A2A5-3D7F388B09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2389B-D139-4B29-B27B-A222334C2A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0570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and C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31240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Producer Alyssa Monceau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urpo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urpose of this movie is to inform the viewer about sand cats. The movie will tell you the environment it lives in, what it eats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usiness Mode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y movie will be special because it is about an animal that most people don’t even know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0T18:59:31Z</dcterms:created>
  <dc:creator/>
  <dc:description/>
  <dc:language>en-US</dc:language>
  <cp:lastModifiedBy>City School</cp:lastModifiedBy>
  <dcterms:modified xsi:type="dcterms:W3CDTF">2013-02-21T20:56:33Z</dcterms:modified>
  <cp:revision>45</cp:revision>
  <dc:subject/>
  <dc:title>The Pitch-Then-Plan Business Planning Template</dc:title>
</cp:coreProperties>
</file>